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0E6-4A9E-4E90-A351-9D2E0878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89C-45E1-4155-A271-3B4E4DAB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BD7-3019-46A0-9535-8141DF0A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611-5E6B-4742-A9F6-D3FE5089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27D0-A273-4975-9FAC-7E4881B0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4D86-D311-4243-9EDF-214B8F3E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6FB-149D-4372-BDCF-DD7B902E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A643-13CA-4E8E-AEB1-EC61B5AD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4D40-D5F6-4501-A508-8583408E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D9AE-6516-49CC-AD0E-BD801E7C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24FE-0D46-47DC-96A5-1D9B5484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554-8CD4-48A4-A69A-60AB830D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1999-27A8-4D84-ABCC-C2FC4C83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7589-79AC-4E8B-A069-D12C0E1D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179D-9A5F-4D4E-BE87-0038637E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23B4-9DE3-45E1-A013-F0C15672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0525-0996-496B-89FA-8A451074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EF4-818C-4289-BCED-0D9DB109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AB6-A7E5-41C9-AD8E-78FDF0A4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30F-1677-4CD0-A423-3C8C3103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711-AF55-4F9B-A93E-1F57B63C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D1F-A704-439F-9F8E-D9044EE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4F6-CF36-4610-905C-AAA728DC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246-FC8D-426E-A026-7895ECF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46C0-FAEE-4D38-AB50-EAD281EE4F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FEF3-ADB3-4EB4-985B-6535A3183C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ivilwarhome.com/weapons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echnology and Medicine During the Civil War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Austin De La Ron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ical advances were a big part of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much was known about medicine during the Civil War. That is one of the reasons why diseases spr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3173400"/>
            <a:ext cx="342900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8737E-007 C 0.02187 0.00509 0.0427 0.01943 0.06353 0.02961 C 0.10138 0.04834 0.14114 0.05968 0.18003 0.07356 C 0.20121 0.08096 0.22239 0.08697 0.24357 0.09391 C 0.25034 0.09623 0.25676 0.09854 0.26353 0.10016 C 0.26822 0.10131 0.2776 0.1034 0.2776 0.1034 C 0.32343 0.10016 0.37256 0.09923 0.4177 0.08466 C 0.43228 0.08003 0.44426 0.07471 0.45763 0.06569 C 0.46267 0.06222 0.47169 0.0532 0.47169 0.0532 C 0.48645 0.02151 0.46423 -0.02314 0.44826 -0.04719 C 0.44583 -0.05089 0.44062 -0.05737 0.43767 -0.05968 C 0.43385 -0.06269 0.42586 -0.06755 0.42586 -0.06755 C 0.40867 -0.06153 0.39496 -0.04395 0.38003 -0.03146 C 0.37065 -0.0236 0.36024 -0.01805 0.35051 -0.01111 C 0.34149 -0.00463 0.33402 0.00555 0.32465 0.01087 C 0.32187 0.01249 0.31909 0.01341 0.31649 0.01549 C 0.31388 0.01758 0.31197 0.02128 0.30937 0.02336 C 0.29461 0.03516 0.27864 0.04557 0.26353 0.05644 C 0.24947 0.06662 0.2309 0.06777 0.21527 0.07055 C 0.2059 0.07009 0.19635 0.07078 0.18697 0.06893 C 0.1743 0.06639 0.1493 0.04348 0.14357 0.02822 C 0.13958 0.01758 0.13888 0.00532 0.13767 -0.00625 C 0.13923 -0.02869 0.14166 -0.05436 0.1493 -0.07541 C 0.17031 -0.13324 0.20433 -0.16864 0.2493 -0.18807 C 0.27603 -0.18691 0.27413 -0.19061 0.29062 -0.18344 C 0.32204 -0.16979 0.3486 -0.14134 0.38228 -0.1381 C 0.38853 -0.13856 0.39496 -0.1388 0.40121 -0.13949 C 0.40746 -0.14018 0.41232 -0.1455 0.4177 -0.14897 C 0.43333 -0.15869 0.44722 -0.16771 0.46232 -0.17881 C 0.47968 -0.19177 0.4993 -0.20195 0.51284 -0.22277 C 0.52534 -0.2422 0.52881 -0.25908 0.53524 -0.28221 C 0.53801 -0.31159 0.53871 -0.34282 0.52829 -0.37012 C 0.50781 -0.42401 0.4611 -0.45224 0.4177 -0.45779 C 0.38142 -0.45617 0.34235 -0.45409 0.30711 -0.44044 C 0.28176 -0.43072 0.2559 -0.42101 0.23055 -0.41083 C 0.21822 -0.40597 0.20659 -0.39811 0.19409 -0.39348 C 0.1743 -0.38608 0.15381 -0.37937 0.13524 -0.36688 C 0.10624 -0.34768 0.07742 -0.2991 0.06701 -0.25862 C 0.06666 -0.25492 0.06631 -0.25122 0.06579 -0.24775 C 0.06527 -0.24405 0.06388 -0.24058 0.06353 -0.23688 C 0.06093 -0.21513 0.06076 -0.192 0.0552 -0.17095 C 0.05416 -0.14944 0.0519 -0.12816 0.05051 -0.10664 C 0.04878 -0.07865 0.05277 -0.08906 0.04704 -0.0768 C 0.04513 -0.065 0.04044 -0.0546 0.03645 -0.04395 C 0.03281 -0.03424 0.03176 -0.0236 0.02586 -0.01573 C 0.02326 -0.00579 0.01527 0.00323 0.00815 0.00786 C 0.00659 0.00879 0.00503 0.00994 0.00347 0.01087 C 0.00242 0.01156 -6.38889E-006 0.01249 -6.38889E-006 0.01249 E">
                                      <p:cBhvr>
                                        <p:cTn id="34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hackman-adams.com/guns/Technology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3/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civilwarhome.com/weapons.htm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3/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ivilwarhome.com/gatlinggun.htm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3/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ivilwarhome.com/medicinehistory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6/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ivilwarhome.com/civilwarmedicine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7/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ill you lea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learn about the technology and medicine that  people used during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chnology that they used were a big part in the war because better guns were made to win the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ilroa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ilroad was “new technology” during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orth had about 22,000 miles of railroad and the South had about 9,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lroads were used to supply armies with food and water; they also were used to move troo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2500200" cy="2238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82443E-006 C -0.01701 0.00578 -0.04375 -0.00486 -0.06111 -0.01087 C -0.06927 -0.01365 -0.07778 -0.01481 -0.08594 -0.01712 C -0.09722 -0.02013 -0.10885 -0.0273 -0.11996 -0.02961 C -0.13576 -0.03262 -0.12691 -0.02961 -0.13767 -0.03285 C -0.14635 -0.03563 -0.15469 -0.03979 -0.16354 -0.04233 C -0.16944 -0.04603 -0.17483 -0.04858 -0.18125 -0.04997 C -0.19566 -0.06015 -0.21285 -0.06315 -0.22708 -0.07356 C -0.23542 -0.07958 -0.24271 -0.08675 -0.25173 -0.09091 C -0.2533 -0.09253 -0.25469 -0.09438 -0.25642 -0.09554 C -0.25746 -0.09646 -0.25903 -0.09623 -0.26007 -0.09716 C -0.27014 -0.10595 -0.27743 -0.11612 -0.28351 -0.13 C -0.28472 -0.13787 -0.28715 -0.14411 -0.28819 -0.15198 C -0.2875 -0.16863 -0.28941 -0.17372 -0.28351 -0.18483 C -0.27899 -0.20287 -0.26476 -0.2068 -0.25295 -0.21143 C -0.24149 -0.2105 -0.23021 -0.20981 -0.21875 -0.20842 C -0.21128 -0.2075 -0.20364 -0.20056 -0.19653 -0.19732 C -0.18472 -0.18506 -0.19028 -0.18783 -0.18125 -0.18483 C -0.1776 -0.1802 -0.17326 -0.17835 -0.16944 -0.17395 C -0.15972 -0.16308 -0.14687 -0.1529 -0.1342 -0.15036 C -0.1151 -0.14226 -0.09531 -0.14365 -0.07535 -0.1425 C -0.0691 -0.14296 -0.06267 -0.1425 -0.05642 -0.14411 C -0.05417 -0.14458 -0.0526 -0.14758 -0.05052 -0.14874 C -0.04028 -0.15499 -0.03142 -0.16424 -0.02118 -0.17072 C -0.01493 -0.17951 -0.01875 -0.17488 -0.00712 -0.18483 C -0.00521 -0.18645 -0.00121 -0.18968 -0.00121 -0.18968 C -0.00035 -0.1913 0.00017 -0.19292 0.00122 -0.19431 C 0.00261 -0.19616 0.00469 -0.19686 0.0059 -0.19894 C 0.00868 -0.20403 0.01024 -0.21235 0.01285 -0.21791 C 0.01372 -0.22207 0.01563 -0.22623 0.01528 -0.2304 C 0.01441 -0.23919 0.01406 -0.24821 0.01285 -0.257 C 0.01181 -0.26394 0.00695 -0.26949 0.00347 -0.27412 C -0.00503 -0.28545 -0.01319 -0.29147 -0.02465 -0.29609 C -0.0467 -0.29447 -0.06458 -0.29147 -0.08351 -0.27574 C -0.09097 -0.26972 -0.09896 -0.25746 -0.10712 -0.25376 C -0.11545 -0.24266 -0.12552 -0.23433 -0.1342 -0.22415 C -0.15851 -0.19547 -0.18785 -0.17326 -0.21996 -0.16447 C -0.23507 -0.16031 -0.26406 -0.16169 -0.2717 -0.16146 C -0.28559 -0.15869 -0.29375 -0.14874 -0.30469 -0.13787 C -0.30694 -0.12607 -0.30868 -0.11335 -0.3118 -0.10178 C -0.31076 -0.09137 -0.31198 -0.07981 -0.30816 -0.07055 C -0.30347 -0.05922 -0.28976 -0.0465 -0.28125 -0.04071 C -0.27413 -0.03609 -0.26719 -0.03123 -0.26007 -0.0266 C -0.25608 -0.02406 -0.24705 -0.02175 -0.24705 -0.02175 C -0.23767 -0.01365 -0.225 -0.01041 -0.21406 -0.00625 C -0.20746 2.82443000000025E-006 -0.19844 0.00208 -0.19062 0.00486 C -0.16805 0.00393 -0.14687 0.00069 -0.12465 -0.00139 C -0.11545 -0.00393 -0.1059 -0.00625 -0.09653 -0.00625 E">
                                      <p:cBhvr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nie B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inie ball is a ½ inch lead rifle bulle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inie ball was responsible for an overwhelming number of deaths during the Civil W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the year of 1848, French army Captain Claude F. Minie created the minie ball. Captain Minie’s minie balls were very expensiv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y 1855, a Harpers Ferry Armory worker named James H. Burton made an even cheaper version of Minie’s minie ba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rton’s minie balls soon were used as ammunition on both sides of the Civil W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mall A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arm is a weapon that is smaller than a cannon and can be carried by a solid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rms include: muskets, rifles, shoulder guns, hand guns, such as a pistol,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rms compelled an immense change in infantry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64808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93 0.0044 C 0.17014 -0.00971 0.13958 0.00393 0.22812 0.00116 C 0.24166 0.00069 0.25503 -0.00601 0.26823 -0.00971 C 0.27882 -0.01712 0.26562 -0.00902 0.2835 -0.01434 C 0.28524 -0.0148 0.28645 -0.01689 0.28819 -0.01758 C 0.30347 -0.02383 0.31892 -0.0273 0.33402 -0.0347 C 0.34791 -0.04141 0.3585 -0.05875 0.37291 -0.06292 C 0.38177 -0.07518 0.39132 -0.08559 0.4 -0.09762 C 0.41128 -0.11288 0.39114 -0.09207 0.4118 -0.11473 C 0.41701 -0.12052 0.42135 -0.12468 0.42586 -0.13208 C 0.43454 -0.14619 0.44218 -0.16123 0.45052 -0.1758 C 0.45312 -0.18043 0.45329 -0.18737 0.45642 -0.19153 C 0.46076 -0.19732 0.46007 -0.1957 0.46354 -0.20402 C 0.46927 -0.21767 0.47343 -0.23271 0.47882 -0.24636 C 0.48211 -0.26764 0.47725 -0.2415 0.4835 -0.26047 C 0.49045 -0.28105 0.47986 -0.25862 0.48698 -0.27296 C 0.48889 -0.28499 0.49357 -0.29493 0.49757 -0.30604 C 0.4993 -0.31691 0.50086 -0.32894 0.50468 -0.33888 C 0.51059 -0.37705 0.50989 -0.42956 0.49166 -0.46426 C 0.48871 -0.47814 0.47847 -0.48971 0.46823 -0.49248 C 0.46701 -0.49364 0.46597 -0.49549 0.46458 -0.49572 C 0.45954 -0.49688 0.45573 -0.48878 0.45173 -0.48462 C 0.44392 -0.47652 0.44843 -0.47999 0.44114 -0.47536 C 0.43368 -0.46472 0.42361 -0.45778 0.41527 -0.44853 C 0.40468 -0.43673 0.39652 -0.42239 0.38576 -0.41106 C 0.38177 -0.40018 0.37326 -0.39186 0.36701 -0.38284 C 0.35885 -0.37104 0.35208 -0.35623 0.34236 -0.34675 C 0.33611 -0.33056 0.3217 -0.30673 0.3118 -0.29355 C 0.30555 -0.28522 0.29809 -0.27828 0.29166 -0.26995 C 0.28698 -0.26394 0.28107 -0.2607 0.27517 -0.25746 C 0.27326 -0.25653 0.27135 -0.25515 0.26944 -0.25422 C 0.26718 -0.25306 0.26232 -0.25121 0.26232 -0.25121 C 0.2552 -0.25168 0.24809 -0.25145 0.24114 -0.2526 C 0.2276 -0.25491 0.21562 -0.27735 0.20347 -0.28429 C 0.19461 -0.30002 0.17916 -0.31321 0.16701 -0.32477 C 0.15642 -0.33495 0.1467 -0.34721 0.13645 -0.35762 C 0.13159 -0.36271 0.12621 -0.36711 0.12118 -0.37173 C 0.11875 -0.37381 0.11579 -0.37497 0.11406 -0.37798 C 0.10902 -0.38654 0.10347 -0.38977 0.09757 -0.39695 C 0.08784 -0.40851 0.07882 -0.42123 0.06944 -0.43303 C 0.06527 -0.43812 0.06128 -0.44344 0.05642 -0.44714 C 0.05451 -0.44876 0.05225 -0.44992 0.05052 -0.45177 C 0.04409 -0.45871 0.03802 -0.46634 0.03177 -0.47374 C 0.02986 -0.47606 0.02795 -0.47814 0.02586 -0.47999 C 0.02361 -0.4823 0.02083 -0.48369 0.01875 -0.48624 C 0.01284 -0.49294 0.00902 -0.50312 0.00225 -0.50821 C -0.00834 -0.51631 -0.01806 -0.52625 -0.0283 -0.53481 C -0.04011 -0.54476 -0.05191 -0.55471 -0.06355 -0.56465 C -0.07136 -0.57113 -0.07796 -0.57969 -0.08716 -0.58177 C -0.09341 -0.58755 -0.09983 -0.59126 -0.10712 -0.59287 C -0.12518 -0.60444 -0.13993 -0.5827 -0.1566 -0.57714 C -0.16111 -0.57113 -0.1665 -0.56812 -0.17188 -0.56303 C -0.17848 -0.55679 -0.18368 -0.54869 -0.18941 -0.54106 C -0.19063 -0.53944 -0.1908 -0.53666 -0.19184 -0.53481 C -0.19532 -0.5288 -0.19948 -0.52417 -0.20243 -0.5177 C -0.2033 -0.51561 -0.204 -0.5133 -0.20469 -0.51122 C -0.20521 -0.5096 -0.20521 -0.50798 -0.20591 -0.50659 C -0.21111 -0.49479 -0.21771 -0.48346 -0.22361 -0.47213 C -0.22761 -0.46472 -0.229 -0.45478 -0.23299 -0.44714 C -0.23421 -0.44043 -0.23594 -0.43535 -0.23889 -0.42979 C -0.2441 -0.40319 -0.25799 -0.37705 -0.26598 -0.35138 C -0.26806 -0.33703 -0.27084 -0.32292 -0.27414 -0.30904 C -0.2757 -0.29563 -0.27691 -0.2836 -0.27778 -0.26995 C -0.27917 -0.21975 -0.2875 -0.16377 -0.27292 -0.11635 C -0.27118 -0.1034 -0.26459 -0.08744 -0.26007 -0.07564 C -0.25921 -0.0731 -0.25886 -0.07009 -0.25764 -0.06778 C -0.25573 -0.06431 -0.2507 -0.05829 -0.2507 -0.05829 C -0.24827 -0.04626 -0.25139 -0.05737 -0.24601 -0.04742 C -0.2349 -0.02683 -0.24254 -0.03423 -0.23421 -0.02706 C -0.23091 -0.02128 -0.22743 -0.01596 -0.2224 -0.01295 C -0.22014 -0.01157 -0.21528 -0.00971 -0.21528 -0.00971 C -0.17223 -0.01712 -0.12848 -0.00786 -0.08594 -0.01758 C 0.01389 -0.0148 -0.04896 -0.02221 -0.01771 -0.01133 C -0.01441 -0.00786 -0.0099 -0.00393 -0.00591 -0.00185 C -0.004 -0.00092 4.72222E-006 -0.00023 4.72222E-006 -0.00023 E">
                                      <p:cBhvr>
                                        <p:cTn id="1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ged Weap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d Weapons, like a bayonet or a sword, appeared in abundance during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ords were the symbol of an officer’s auth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2743200" cy="2740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1293840" cy="2658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90146E-006 L 0.26719 -0.27435 L 0.11771 -0.37312 L 0.22951 -0.44506 L 0.03299 -0.47028 L 0.03177 -0.34328 L -0.08108 -0.42795 L -0.12222 -0.26486 L 0.02483 -0.19755 L -0.14931 -0.17719 L -0.26927 -0.08767 L -0.06458 0.01411 E">
                                      <p:cBhvr>
                                        <p:cTn id="16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5769E-006 L -0.14601 -0.06732 L 0.0658 -0.15661 L -0.12587 -0.16285 L 0.10225 -0.257 L -0.09306 -0.27736 L 0.04705 -0.31807 L -0.09063 -0.22878 L 0.07048 -0.2038 L -0.15417 -0.16771 L 0.01406 -0.13001 L -0.15538 -0.10179 L 0.01284 -0.03586 L -1.11111E-006 -0.00926 E">
                                      <p:cBhvr>
                                        <p:cTn id="17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o on the Medical Staff for the Un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beginning of the war, the medical staff only had the surgeon general, thirty surgeons, and eighty-three assistant surge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of those resigned to “Go South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re surgeons were dropped because of disloyalty. Because of this, the medical corps started out the war with only 87 men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91120" y="44197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01642E-006 L 0.37517 -0.35739 L -0.33767 -0.45454 L 0.02813 -0.63636 L -0.2283 -0.21466 L 0.01285 0.00162 E">
                                      <p:cBhvr>
                                        <p:cTn id="20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o on the Medical Staff for the Confedera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nfederacy started taking state militias and putting them into service, each of which had a surgeon and an assistant surge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Samuel Preston Moore, a surgeon general for the Confederacy, foresaw shortages in many things, like drugs, surgical instruments, and hospital supplies. He set up laboratories for drug making and bought hospital supplies from Eur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2590560" cy="1730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9880" y="4191120"/>
            <a:ext cx="2362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utation kit used during the civil w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illinoistimes.com/binary/f45f/coverside01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7516E-006 L 0.34236 -0.09415 L -0.04236 -0.27111 L 0.37882 -0.41846 L -0.15295 -0.38561 L 0.19531 -0.16771 L 0.00243 -0.05182 E">
                                      <p:cBhvr>
                                        <p:cTn id="2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cal C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oldier's chance of not surviving was about 1 in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time of the Civil War, little was known about what caused diseases or how to cure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1865, almost 13,000 Union doctors and about 4,000 Confederate doctors had served. Almost all of them were undertrained. Almost 4,000 women devoted their time to hel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ximately 620,000 men-360,000 Northerners and 260,000 Southerners-died during the Civil War. Of these, almost 110,000 Union and 94,000 Confederate men died of wounds give during batt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 of almost 175,000 wounds given to the Federal Army, almost 30,000 led to ampu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4:30Z</dcterms:created>
  <dc:creator>austinmde la ronde</dc:creator>
  <dc:description/>
  <dc:language>en-US</dc:language>
  <cp:lastModifiedBy>austinmde la ronde</cp:lastModifiedBy>
  <dcterms:modified xsi:type="dcterms:W3CDTF">2009-03-20T16:21:47Z</dcterms:modified>
  <cp:revision>32</cp:revision>
  <dc:subject/>
  <dc:title>Technology and Medicine During the Civil War</dc:title>
</cp:coreProperties>
</file>